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6.jpeg" ContentType="image/jpeg"/>
  <Override PartName="/ppt/media/image17.wmf" ContentType="image/x-wmf"/>
  <Override PartName="/ppt/media/image16.jpeg" ContentType="image/jpeg"/>
  <Override PartName="/ppt/media/image35.wmf" ContentType="image/x-wmf"/>
  <Override PartName="/ppt/media/image39.gif" ContentType="image/gif"/>
  <Override PartName="/ppt/media/image15.png" ContentType="image/png"/>
  <Override PartName="/ppt/media/image34.wmf" ContentType="image/x-wmf"/>
  <Override PartName="/ppt/media/image9.wmf" ContentType="image/x-wmf"/>
  <Override PartName="/ppt/media/image10.jpeg" ContentType="image/jpeg"/>
  <Override PartName="/ppt/media/image42.jpeg" ContentType="image/jpeg"/>
  <Override PartName="/ppt/media/image2.gif" ContentType="image/gif"/>
  <Override PartName="/ppt/media/image8.jpeg" ContentType="image/jpeg"/>
  <Override PartName="/ppt/media/image38.png" ContentType="image/png"/>
  <Override PartName="/ppt/media/image41.wmf" ContentType="image/x-wmf"/>
  <Override PartName="/ppt/media/image30.wmf" ContentType="image/x-wmf"/>
  <Override PartName="/ppt/media/image32.png" ContentType="image/png"/>
  <Override PartName="/ppt/media/image1.jpeg" ContentType="image/jpeg"/>
  <Override PartName="/ppt/media/image40.wmf" ContentType="image/x-wmf"/>
  <Override PartName="/ppt/media/image36.wmf" ContentType="image/x-wmf"/>
  <Override PartName="/ppt/media/image44.jpeg" ContentType="image/jpeg"/>
  <Override PartName="/ppt/media/image45.wmf" ContentType="image/x-wmf"/>
  <Override PartName="/ppt/media/image4.jpeg" ContentType="image/jpeg"/>
  <Override PartName="/ppt/media/image5.png" ContentType="image/png"/>
  <Override PartName="/ppt/media/image43.jpeg" ContentType="image/jpeg"/>
  <Override PartName="/ppt/media/image28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14.gif" ContentType="image/gif"/>
  <Override PartName="/ppt/media/image37.wmf" ContentType="image/x-wmf"/>
  <Override PartName="/ppt/media/image7.wmf" ContentType="image/x-wmf"/>
  <Override PartName="/ppt/media/image13.jpeg" ContentType="image/jpeg"/>
  <Override PartName="/ppt/media/image12.jpeg" ContentType="image/jpeg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AA10-826F-4DA5-9CCA-7F06792D4BC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AA83-24D6-4A2F-A9DF-ADD59692DC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2E8-0B04-4BB1-8F20-86E3E0D1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671-0EAA-409B-976A-719734D9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1BC-3EC1-4113-9374-D82C75A3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DF4-25EE-4890-9A56-0E9D9635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9730-BD28-42C7-9615-C798D1F5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938E-8E17-4F2B-AE9E-25E59FEE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FD9D-5547-436E-A01A-BF956BD5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B905-630B-4DC7-84A1-C9EDDF8C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FE4C-0A48-410F-899A-C2F2AFC8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ACEE-A673-4C1C-A6A4-DD4A653B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8223-D866-421D-B16E-75E0AA9C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12B-C538-4CE1-88F5-8AAFF07E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B65C-6C07-4019-916D-1D9F4B70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0657-CAEF-499F-83DB-DE06D5FC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294A-7EF8-4866-A52A-9A50D9DF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0ECA-2029-4895-B140-27EAA095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792A-7487-48BF-8574-9379D5C7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23AA6-8055-462C-8A3C-9258219E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D0623-C9ED-4194-843A-61557994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2D4E2-49CE-4B44-B8E7-B27BAFD7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310CC-1304-4D5D-B382-66BFA8E9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86A2E-481A-4D88-A86A-DB25E36D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DC9-73F7-45DD-A57A-0A5A9D8B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5C606-FF87-49C7-A358-2032DF57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5E8F5-0859-44C6-B5D6-78D117B7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5FA1F-DF8B-43A9-8BD7-A90B0BE7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FDE82-994A-456F-98C7-C1E64586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ADB25-3790-48BA-A38F-CEC42213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1D730-8883-4592-A2A4-6144A3F5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38AC3-7AD1-4E85-BE33-AF0233FB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09482-2A96-4DA3-AC58-7B6D13A7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0B654-8BA5-4124-A83B-B12C0306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14D29-2C1F-41D0-A4FC-2A9574FA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0FA-4F5D-4E09-95A2-95C7367E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3C8A-9FD2-4F2A-8031-A948B879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BBC8F-AFEA-4FC6-8ED3-93FEE1FA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78F1-EF89-4B24-80D3-A8BBD0EB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A23B8-B7F6-4544-817D-881DC940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924F-A3AA-412C-B7E2-83E3701A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1934F-6C02-460F-A26A-434FC22D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4B419-95F4-4D84-8209-A5002C3D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B3589-6FED-4CDE-80AF-A155628A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CC67A-20A7-4611-99E7-274FDB12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DC13D-A8D6-4138-830E-075A4ACD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0CD-C66F-4B8E-9674-4522536C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2EE7E-8849-4830-AFF0-83EFD440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A7DF9-C1DA-4742-9114-FE9522A6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BB22F-7001-4A8E-959E-48AF95BA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978C5-E35A-4B96-878E-7B3689B6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D678D-4135-4488-83BF-EDFD3982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E3DAD-D17E-47F7-892D-5E2FFD00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20F2A-765C-4959-A4F9-48FBD909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32F8B-1C84-46C1-9C26-FB801BFA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58B83-CC9E-40BC-ABBF-19BBE654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E70E0-D3D5-4FA9-99D4-A0E501E0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04B-58D4-42A9-ADA8-9D06A437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0F106-0CC1-4D75-B19F-3DF80227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1D088B-4BC8-4DCF-9423-AE059C1A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7155A-8D1B-4A8A-A30B-88B46EEA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82FBE-23BD-4761-BFDA-387FD48B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9FAA45-64CA-4AB4-A5F4-F47E3F9D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88F23-CFE9-459D-88A0-1C7E551F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19687D-13BA-4359-9F24-3F56FE3E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85726E-C4D9-4382-940C-C9D79B18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77FD4-C360-41D0-9F95-9CDBAEEA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45216-529C-4BA3-B505-71EA9B69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2B4-6063-4469-A06B-0F2E0512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1F6A9-1765-4E68-945B-76FAA400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5F6EC-402B-4D39-A7B4-67EFF6E8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EB7FC-56FA-42DC-B341-2A06963C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C1FC7-6900-4661-AE28-03943DD8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9C076-5122-455A-9FA7-EFF0B0D2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C0EBB-FF96-4661-91DB-F0D5C174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0310E-5EB4-4DD3-B9A0-65DF0B10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A59F2F-BD38-4ED2-9EC5-D410B149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A5765-3F86-4A15-B10A-CACB2AC3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C3719-D676-47DB-A25F-EEF24DA2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812-14D0-4BD2-9AD2-C6F81CE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E26408-8DB5-473B-9311-9EDC8DC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64EF6-A175-4150-8D2E-5088DE5B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A9371-0E3C-4559-8D1C-E02075FF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9B8C9-5B0D-4F60-A531-3CA97230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0A83E5-E528-4C35-9812-FF752A66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180-6FED-4274-ACB7-39CD1681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EA7D-BC96-4BCC-9D43-B1ADF0C392F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4855-32ED-4DDE-9188-711D6227D6D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D435-4E45-4D3D-86A0-F98391D870E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AB5E-CBC9-4BE1-AE65-894A4A51215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ABC6-2712-4089-A554-171BD53025C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33E0-E027-451B-AEBE-939FCC046CD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EAB2-78CF-41F0-9395-12453496B60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72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لذكاء الاجتماعي 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3505320" y="510552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e8637"/>
                </a:solidFill>
                <a:latin typeface="Verdana"/>
                <a:cs typeface="AL-Mohanad Bold"/>
              </a:rPr>
              <a:t>للمدرب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  <a:ea typeface="AL-Mohanad Bold"/>
              </a:rPr>
              <a:t>        د. خالد بن صالح المني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2286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فن  التعامل  وقوة التأثير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Group 10"/>
          <p:cNvGrpSpPr/>
          <p:nvPr/>
        </p:nvGrpSpPr>
        <p:grpSpPr>
          <a:xfrm>
            <a:off x="2895480" y="3276720"/>
            <a:ext cx="3657600" cy="1632240"/>
            <a:chOff x="2895480" y="3276720"/>
            <a:chExt cx="3657600" cy="1632240"/>
          </a:xfrm>
        </p:grpSpPr>
        <p:sp>
          <p:nvSpPr>
            <p:cNvPr id="362" name="WordArt 4"/>
            <p:cNvSpPr txBox="1"/>
            <p:nvPr/>
          </p:nvSpPr>
          <p:spPr>
            <a:xfrm>
              <a:off x="2895480" y="3276720"/>
              <a:ext cx="36576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7598d9"/>
                    </a:solidFill>
                    <a:miter/>
                  </a:ln>
                  <a:solidFill>
                    <a:srgbClr val="bfbfb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K Elham"/>
                </a:rPr>
                <a:t> </a:t>
              </a:r>
              <a:endPara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bfbfb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 Elham"/>
                <a:ea typeface="K Elham"/>
              </a:endParaRPr>
            </a:p>
          </p:txBody>
        </p:sp>
        <p:pic>
          <p:nvPicPr>
            <p:cNvPr id="363" name="Picture 4" descr="C:\Documents and Settings\asus\My Documents\عرض\صور4\backbghearts.gif"/>
            <p:cNvPicPr/>
            <p:nvPr/>
          </p:nvPicPr>
          <p:blipFill>
            <a:blip r:embed="rId2"/>
            <a:stretch/>
          </p:blipFill>
          <p:spPr>
            <a:xfrm>
              <a:off x="2895480" y="3276720"/>
              <a:ext cx="36576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9"/>
            <p:cNvSpPr/>
            <p:nvPr/>
          </p:nvSpPr>
          <p:spPr>
            <a:xfrm>
              <a:off x="3047760" y="3352680"/>
              <a:ext cx="3276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800" spc="-1" strike="noStrike">
                  <a:solidFill>
                    <a:srgbClr val="a6a6a6"/>
                  </a:solidFill>
                  <a:latin typeface="Verdana"/>
                  <a:cs typeface="AL-Mohanad Bold"/>
                </a:rPr>
                <a:t>ســــحـــر الــحـــب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 rot="19777200">
            <a:off x="375840" y="5405400"/>
            <a:ext cx="2057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تكبر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WordArt 4"/>
          <p:cNvSpPr txBox="1"/>
          <p:nvPr/>
        </p:nvSpPr>
        <p:spPr>
          <a:xfrm>
            <a:off x="2438280" y="175248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2600">
                  <a:solidFill>
                    <a:srgbClr val="515d73"/>
                  </a:solidFill>
                  <a:miter/>
                </a:ln>
                <a:solidFill>
                  <a:srgbClr val="ffff9b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K Elham"/>
              </a:rPr>
              <a:t>اشراقات</a:t>
            </a:r>
            <a:endParaRPr b="1" lang="en-US" sz="7200" spc="1" strike="noStrike">
              <a:ln w="12600">
                <a:solidFill>
                  <a:srgbClr val="515d73"/>
                </a:solidFill>
                <a:miter/>
              </a:ln>
              <a:solidFill>
                <a:srgbClr val="ffff9b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K Elham"/>
              <a:ea typeface="K Elham"/>
            </a:endParaRPr>
          </a:p>
        </p:txBody>
      </p:sp>
      <p:sp>
        <p:nvSpPr>
          <p:cNvPr id="394" name="Rectangle 3"/>
          <p:cNvSpPr/>
          <p:nvPr/>
        </p:nvSpPr>
        <p:spPr>
          <a:xfrm rot="19908000">
            <a:off x="2752200" y="554364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ح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3"/>
          <p:cNvSpPr/>
          <p:nvPr/>
        </p:nvSpPr>
        <p:spPr>
          <a:xfrm rot="20265600">
            <a:off x="4541400" y="554796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فكر بأهميتهم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7" descr="C:\Documents and Settings\asus\My Documents\عرض\صور4\80.gif"/>
          <p:cNvPicPr/>
          <p:nvPr/>
        </p:nvPicPr>
        <p:blipFill>
          <a:blip r:embed="rId2"/>
          <a:stretch/>
        </p:blipFill>
        <p:spPr>
          <a:xfrm>
            <a:off x="6095880" y="53352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Diagram 5" descr=""/>
          <p:cNvPicPr/>
          <p:nvPr/>
        </p:nvPicPr>
        <p:blipFill>
          <a:blip r:embed="rId1"/>
          <a:stretch/>
        </p:blipFill>
        <p:spPr>
          <a:xfrm>
            <a:off x="0" y="-907920"/>
            <a:ext cx="8259840" cy="86198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C:\Documents and Settings\asus\My Documents\عرض\صور1\48.JPG"/>
          <p:cNvPicPr/>
          <p:nvPr/>
        </p:nvPicPr>
        <p:blipFill>
          <a:blip r:embed="rId1"/>
          <a:stretch/>
        </p:blipFill>
        <p:spPr>
          <a:xfrm>
            <a:off x="-228600" y="228600"/>
            <a:ext cx="2708280" cy="152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124080" y="1069920"/>
            <a:ext cx="510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Century Schoolbook"/>
                <a:ea typeface="AL-Mohanad Bold"/>
              </a:rPr>
              <a:t>* ماذا  يقول الناس الذين  يملكون تقمص عاطفي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فهم ماتشعر به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نا حزين  لأجل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إن ضربات قلبي تتسار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نا  سعيد  لأجل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Century Schoolbook"/>
                <a:ea typeface="AL-Mohanad Bold"/>
              </a:rPr>
              <a:t>* ماذا  يفعلون 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بكو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تغير  تعابيره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ساعدون الآخري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شعر بالفرح  إذا  فازو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4" descr="C:\Documents and Settings\asus\My Documents\عرض\صور4\DSGNC039.WMF"/>
          <p:cNvPicPr/>
          <p:nvPr/>
        </p:nvPicPr>
        <p:blipFill>
          <a:blip r:embed="rId2"/>
          <a:stretch/>
        </p:blipFill>
        <p:spPr>
          <a:xfrm>
            <a:off x="1295280" y="3048120"/>
            <a:ext cx="2895840" cy="2290680"/>
          </a:xfrm>
          <a:prstGeom prst="rect">
            <a:avLst/>
          </a:prstGeom>
          <a:ln w="0">
            <a:noFill/>
          </a:ln>
        </p:spPr>
      </p:pic>
      <p:sp>
        <p:nvSpPr>
          <p:cNvPr id="402" name="WordArt 6"/>
          <p:cNvSpPr txBox="1"/>
          <p:nvPr/>
        </p:nvSpPr>
        <p:spPr>
          <a:xfrm>
            <a:off x="609480" y="609480"/>
            <a:ext cx="99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تأمل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38862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0c0"/>
                </a:solidFill>
                <a:latin typeface="Century Schoolbook"/>
                <a:cs typeface="K Elham"/>
              </a:rPr>
              <a:t>كُن  صيادا  ماهراً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105520" y="2361960"/>
            <a:ext cx="30477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ماذا  يريد  السمك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الحصان  والخادمة الذكي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كار نجي وصاحب الفند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قاعدة  خطيرة 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523880" y="167616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نتصر في كل  معرك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24280" y="456840"/>
            <a:ext cx="3276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هل  تُريد  أن يحتفى بك  أينما  ذهبت؟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819520" y="3276720"/>
            <a:ext cx="5333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حصائية  شركة الهاتف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رئيس وطائر زوج خادمته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ندوب التسويق  الذكي  والطواب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شيك العجيب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ستراتيجية روزفل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5" descr="C:\Documents and Settings\asus\My Documents\My Pictures\Microsoft Clip Organizer\j0402446.jpg"/>
          <p:cNvPicPr/>
          <p:nvPr/>
        </p:nvPicPr>
        <p:blipFill>
          <a:blip r:embed="rId1"/>
          <a:stretch/>
        </p:blipFill>
        <p:spPr>
          <a:xfrm>
            <a:off x="987480" y="530280"/>
            <a:ext cx="3286080" cy="2603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E:\CLIPART\OBJECTS\COMMU\TELE017.WMF"/>
          <p:cNvPicPr/>
          <p:nvPr/>
        </p:nvPicPr>
        <p:blipFill>
          <a:blip r:embed="rId2"/>
          <a:stretch/>
        </p:blipFill>
        <p:spPr>
          <a:xfrm>
            <a:off x="2362320" y="3733920"/>
            <a:ext cx="946080" cy="761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E:\CLIPART\ANIMALS\ANIMBIRD\BIRD032.WMF"/>
          <p:cNvPicPr/>
          <p:nvPr/>
        </p:nvPicPr>
        <p:blipFill>
          <a:blip r:embed="rId3"/>
          <a:stretch/>
        </p:blipFill>
        <p:spPr>
          <a:xfrm>
            <a:off x="533520" y="4641840"/>
            <a:ext cx="1218960" cy="806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C:\Documents and Settings\asus\My Documents\My Pictures\stamp.gif"/>
          <p:cNvPicPr/>
          <p:nvPr/>
        </p:nvPicPr>
        <p:blipFill>
          <a:blip r:embed="rId4"/>
          <a:stretch/>
        </p:blipFill>
        <p:spPr>
          <a:xfrm>
            <a:off x="2286000" y="5181480"/>
            <a:ext cx="963720" cy="82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استخدم رصيد المليون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828800" y="1980720"/>
            <a:ext cx="5410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ماذا  الابتسام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اذا  تفعل الابتسام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5" descr="D:\only me\wafa\photo\smilie.gif"/>
          <p:cNvPicPr/>
          <p:nvPr/>
        </p:nvPicPr>
        <p:blipFill>
          <a:blip r:embed="rId1"/>
          <a:stretch/>
        </p:blipFill>
        <p:spPr>
          <a:xfrm>
            <a:off x="762120" y="4267080"/>
            <a:ext cx="1904760" cy="18957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D:\only me\wafa\photo\smilie.gif"/>
          <p:cNvPicPr/>
          <p:nvPr/>
        </p:nvPicPr>
        <p:blipFill>
          <a:blip r:embed="rId2"/>
          <a:stretch/>
        </p:blipFill>
        <p:spPr>
          <a:xfrm>
            <a:off x="2057400" y="1601640"/>
            <a:ext cx="915840" cy="9115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D:\only me\wafa\photo\smilie.gif"/>
          <p:cNvPicPr/>
          <p:nvPr/>
        </p:nvPicPr>
        <p:blipFill>
          <a:blip r:embed="rId3"/>
          <a:stretch/>
        </p:blipFill>
        <p:spPr>
          <a:xfrm>
            <a:off x="5410080" y="4648320"/>
            <a:ext cx="1219320" cy="1212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D:\only me\wafa\photo\smilie.gif"/>
          <p:cNvPicPr/>
          <p:nvPr/>
        </p:nvPicPr>
        <p:blipFill>
          <a:blip r:embed="rId4"/>
          <a:stretch/>
        </p:blipFill>
        <p:spPr>
          <a:xfrm>
            <a:off x="7311960" y="609480"/>
            <a:ext cx="689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لاتكلفك  درهما  ولا دينارا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962520" y="1599840"/>
            <a:ext cx="44193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فرغت يا أبا الولي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يف  تكون أفضل  متحدثا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ارنجي وعالم النبا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بوزان وفائدة  المرض</a:t>
            </a:r>
            <a:r>
              <a:rPr b="0" lang="ar-SA" sz="3200" spc="-1" strike="noStrike">
                <a:solidFill>
                  <a:srgbClr val="ffffff"/>
                </a:solidFill>
                <a:latin typeface="Century Schoolbook"/>
                <a:ea typeface="AL-Mohanad Bol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8120" y="837720"/>
            <a:ext cx="2590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ماهي  أهمية الاستماع؟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9480" y="34290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3" name="Group 5"/>
          <p:cNvGrpSpPr/>
          <p:nvPr/>
        </p:nvGrpSpPr>
        <p:grpSpPr>
          <a:xfrm>
            <a:off x="304920" y="228600"/>
            <a:ext cx="2081160" cy="1460520"/>
            <a:chOff x="304920" y="228600"/>
            <a:chExt cx="2081160" cy="1460520"/>
          </a:xfrm>
        </p:grpSpPr>
        <p:pic>
          <p:nvPicPr>
            <p:cNvPr id="424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208116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2"/>
            <p:cNvSpPr/>
            <p:nvPr/>
          </p:nvSpPr>
          <p:spPr>
            <a:xfrm>
              <a:off x="533520" y="228600"/>
              <a:ext cx="1400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6" name="Picture 7" descr="C:\Documents and Settings\asus\My Documents\My Pictures\ear.jpg"/>
          <p:cNvPicPr/>
          <p:nvPr/>
        </p:nvPicPr>
        <p:blipFill>
          <a:blip r:embed="rId2"/>
          <a:stretch/>
        </p:blipFill>
        <p:spPr>
          <a:xfrm>
            <a:off x="6095880" y="390600"/>
            <a:ext cx="216216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1600200" y="471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Verdana"/>
                <a:ea typeface="K Elham"/>
              </a:rPr>
              <a:t> 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cs typeface="K Elham"/>
              </a:rPr>
              <a:t>هناك 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ea typeface="K Elham"/>
              </a:rPr>
              <a:t>5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ea typeface="K Elham"/>
              </a:rPr>
              <a:t> نقاط اساسية </a:t>
            </a:r>
            <a:r>
              <a:rPr b="1" lang="ar-SA" sz="4800" spc="-1" strike="noStrike">
                <a:solidFill>
                  <a:srgbClr val="ff9933"/>
                </a:solidFill>
                <a:latin typeface="Verdana"/>
                <a:ea typeface="K Elham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838080" y="1676520"/>
            <a:ext cx="69343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نظر  الى محدثك بانتباه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ما دمت تستمع له فيجب أن تنظر اليه ايضا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قترب من المتحدث واستمع بإصغا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وكأنك لا تريد أن تفوتك أي كلم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طرح الاسئل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اجعل متحدثك متأكدا بأنك تستمع ل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لا تقاطع المتحدث ولا تخرج عن الموضوع حين تسأل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ستعمل كلمات المتحدث حين تحاوره وتجنب استعمال (أنا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فأنك اذا استعملت (أنا) تغير تركيز الحديث من المتحدث ال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ستمع وهذا يجعله المستمع ويجعلك المتحدث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C:\Documents and Settings\asus\My Documents\My Pictures\Microsoft Clip Organizer\j0293480.wmf"/>
          <p:cNvPicPr/>
          <p:nvPr/>
        </p:nvPicPr>
        <p:blipFill>
          <a:blip r:embed="rId1"/>
          <a:stretch/>
        </p:blipFill>
        <p:spPr>
          <a:xfrm>
            <a:off x="762120" y="685800"/>
            <a:ext cx="2098440" cy="129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البداية؟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2133360"/>
            <a:ext cx="3581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ذي  يقول  أنه لن  يتغير  فلا يضيع  وقته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ذي أتى ليتعرف أو يقارن أو يتسلى فلن يستفيد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مهارة الاستماع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يف نتقن فن الاستماع؟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2" name="Picture 4" descr="C:\Documents and Settings\asus\My Documents\My Pictures\listen02.gif"/>
          <p:cNvPicPr/>
          <p:nvPr/>
        </p:nvPicPr>
        <p:blipFill>
          <a:blip r:embed="rId1"/>
          <a:stretch/>
        </p:blipFill>
        <p:spPr>
          <a:xfrm>
            <a:off x="762120" y="2438280"/>
            <a:ext cx="3038400" cy="23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3" descr="C:\Documents and Settings\asus\My Documents\My Pictures\Microsoft Clip Organizer\j0311820.wmf"/>
          <p:cNvPicPr/>
          <p:nvPr/>
        </p:nvPicPr>
        <p:blipFill>
          <a:blip r:embed="rId1"/>
          <a:stretch/>
        </p:blipFill>
        <p:spPr>
          <a:xfrm>
            <a:off x="2514600" y="2463840"/>
            <a:ext cx="3881520" cy="34034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أنواع الاستماع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77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770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6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98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7315200" y="3039840"/>
            <a:ext cx="152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بنكٌ في غاية الغرابة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380880" y="751680"/>
            <a:ext cx="586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ومن عجائبه  أن حساباته  غير  قابلة  للإلغاء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L-Mohanad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4"/>
          <p:cNvSpPr/>
          <p:nvPr/>
        </p:nvSpPr>
        <p:spPr>
          <a:xfrm rot="21236400">
            <a:off x="5943600" y="2430000"/>
            <a:ext cx="12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ليس  كبقية البنوك!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5"/>
          <p:cNvSpPr/>
          <p:nvPr/>
        </p:nvSpPr>
        <p:spPr>
          <a:xfrm rot="21304200">
            <a:off x="3966840" y="2792880"/>
            <a:ext cx="137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AL-Mohanad Bold"/>
              </a:rPr>
              <a:t>بنك  تفتحُ فيه  ماشئت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ea typeface="AL-Mohanad Bold"/>
              </a:rPr>
              <a:t> من الحسابات 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905120" y="1956240"/>
            <a:ext cx="158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الحساب  لايستغرق فتحه سوى (ثواني)!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0" y="2771640"/>
            <a:ext cx="1523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إيداع   والسحب فيه  بلا أوراق أو  أختام  !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Rectangle 8" descr=""/>
          <p:cNvPicPr/>
          <p:nvPr/>
        </p:nvPicPr>
        <p:blipFill>
          <a:blip r:embed="rId1"/>
          <a:stretch/>
        </p:blipFill>
        <p:spPr>
          <a:xfrm>
            <a:off x="5102280" y="49320"/>
            <a:ext cx="3633840" cy="20905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762120" y="16002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AL-Mohanad Bold"/>
              </a:rPr>
              <a:t>هل عرفتم  هذا  البنك العجيب!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77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770" fill="hold"/>
                                        <p:tgtEl>
                                          <p:spTgt spid="4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بنك المشاعر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419360" y="167616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قدار الثقة التي نبنيها وندخرها في علاقة ما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ادخار: الاحترام واللطف والنزاهة والالتزام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سحب: عدم الاحترام، العجرفة وتأليه الذات، الخيانة وعدم الالتزام، الحكم الظالم أو التهديد، الاعتراف بأخطاء الآخرين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5" name="Picture 4" descr="C:\Documents and Settings\asus\My Documents\عرض\صور4\GOVT137.WMF"/>
          <p:cNvPicPr/>
          <p:nvPr/>
        </p:nvPicPr>
        <p:blipFill>
          <a:blip r:embed="rId2"/>
          <a:stretch/>
        </p:blipFill>
        <p:spPr>
          <a:xfrm>
            <a:off x="685800" y="1905120"/>
            <a:ext cx="3228840" cy="3552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666880" y="7617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اختر  شخص  عزيز  وتأمل في ثلاثة سحوبات وخصومات متوقعة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خصومات متوقعة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3124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يداعات متوقعة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9" name="Picture 8" descr="E:\CLIPART\BORDERS\BRDRMISC\BDROC007.WMF"/>
          <p:cNvPicPr/>
          <p:nvPr/>
        </p:nvPicPr>
        <p:blipFill>
          <a:blip r:embed="rId1"/>
          <a:stretch/>
        </p:blipFill>
        <p:spPr>
          <a:xfrm>
            <a:off x="304920" y="533520"/>
            <a:ext cx="2270160" cy="15238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228600" y="763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entury Schoolbook"/>
                <a:cs typeface="K Elham"/>
              </a:rPr>
              <a:t>تمرين فردي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Century Schoolbook"/>
                <a:cs typeface="K Elham"/>
              </a:rPr>
              <a:t>الفرصة  الوحيدة (الانطباع الأول)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772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بداية  من ذات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بتسم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فاءل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شخ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قدم نفس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نظر لعينيه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قرأ في الأحداث...وأحفظ  شيئا من الطرف والنوادر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6" descr="E:\CLIPART\PEOPLE\MENPROF\MENO076.WMF"/>
          <p:cNvPicPr/>
          <p:nvPr/>
        </p:nvPicPr>
        <p:blipFill>
          <a:blip r:embed="rId1"/>
          <a:stretch/>
        </p:blipFill>
        <p:spPr>
          <a:xfrm>
            <a:off x="1828800" y="2286000"/>
            <a:ext cx="2286000" cy="25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09880" y="1371600"/>
            <a:ext cx="4267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تحدث عن نفسك كثير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دعي المعرف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حفظ ماء وجه محدث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5" name="Picture 6" descr="C:\Documents and Settings\asus\My Documents\عرض\صور4\GOVT143.WMF"/>
          <p:cNvPicPr/>
          <p:nvPr/>
        </p:nvPicPr>
        <p:blipFill>
          <a:blip r:embed="rId1"/>
          <a:stretch/>
        </p:blipFill>
        <p:spPr>
          <a:xfrm>
            <a:off x="380880" y="685800"/>
            <a:ext cx="4724640" cy="5562720"/>
          </a:xfrm>
          <a:prstGeom prst="rect">
            <a:avLst/>
          </a:prstGeom>
          <a:ln w="0">
            <a:noFill/>
          </a:ln>
        </p:spPr>
      </p:pic>
      <p:pic>
        <p:nvPicPr>
          <p:cNvPr id="456" name="WordArt 4" descr=""/>
          <p:cNvPicPr/>
          <p:nvPr/>
        </p:nvPicPr>
        <p:blipFill>
          <a:blip r:embed="rId2"/>
          <a:stretch/>
        </p:blipFill>
        <p:spPr>
          <a:xfrm>
            <a:off x="1749600" y="3651120"/>
            <a:ext cx="1670040" cy="101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لاتكن فضوليا!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160020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ضع لك محيطا حيويا  ولاتتجاوز محيط الآخري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حبيب  اللهم  صلي وسلم عليه مع  أبي تراب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9" name="Picture 6" descr="C:\Documents and Settings\asus\My Documents\عرض\صور4\DSGNC036.WMF"/>
          <p:cNvPicPr/>
          <p:nvPr/>
        </p:nvPicPr>
        <p:blipFill>
          <a:blip r:embed="rId1"/>
          <a:stretch/>
        </p:blipFill>
        <p:spPr>
          <a:xfrm>
            <a:off x="3276720" y="3809880"/>
            <a:ext cx="2438280" cy="18939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" descr="C:\Documents and Settings\asus\My Documents\عرض\صور4\EROAD178.WMF"/>
          <p:cNvPicPr/>
          <p:nvPr/>
        </p:nvPicPr>
        <p:blipFill>
          <a:blip r:embed="rId2"/>
          <a:stretch/>
        </p:blipFill>
        <p:spPr>
          <a:xfrm>
            <a:off x="762120" y="3886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C:\Documents and Settings\asus\My Documents\عرض\صور4\SGNRD022.WMF"/>
          <p:cNvPicPr/>
          <p:nvPr/>
        </p:nvPicPr>
        <p:blipFill>
          <a:blip r:embed="rId3"/>
          <a:stretch/>
        </p:blipFill>
        <p:spPr>
          <a:xfrm>
            <a:off x="6858000" y="3956040"/>
            <a:ext cx="1309680" cy="1378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قتنص  المواقف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3" name="Picture 5" descr="C:\Documents and Settings\asus\My Documents\عرض\صور4\ICONN103.WMF"/>
          <p:cNvPicPr/>
          <p:nvPr/>
        </p:nvPicPr>
        <p:blipFill>
          <a:blip r:embed="rId1"/>
          <a:stretch/>
        </p:blipFill>
        <p:spPr>
          <a:xfrm>
            <a:off x="60958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E:\CLIPART\PEOPLE\HANDS\HAND141.WMF"/>
          <p:cNvPicPr/>
          <p:nvPr/>
        </p:nvPicPr>
        <p:blipFill>
          <a:blip r:embed="rId2"/>
          <a:stretch/>
        </p:blipFill>
        <p:spPr>
          <a:xfrm>
            <a:off x="914400" y="1600200"/>
            <a:ext cx="4191120" cy="4029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 rot="20706600">
            <a:off x="1914120" y="2358720"/>
            <a:ext cx="15238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هم موقفين في الحياة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vert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152280" y="0"/>
            <a:ext cx="8610840" cy="47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لشمعة  المضيئة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295280" y="190512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قصة ذو المسدسي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جنب الانتقاد (انتقاد كاد يكلف  الحياة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قصر الطرق لكسب العداوا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9" name="Rectangle 6" descr=""/>
          <p:cNvPicPr/>
          <p:nvPr/>
        </p:nvPicPr>
        <p:blipFill>
          <a:blip r:embed="rId1"/>
          <a:stretch/>
        </p:blipFill>
        <p:spPr>
          <a:xfrm>
            <a:off x="2359080" y="4840200"/>
            <a:ext cx="5346720" cy="828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C:\Documents and Settings\asus\My Documents\My Pictures\d8207cba96.gif"/>
          <p:cNvPicPr/>
          <p:nvPr/>
        </p:nvPicPr>
        <p:blipFill>
          <a:blip r:embed="rId2"/>
          <a:stretch/>
        </p:blipFill>
        <p:spPr>
          <a:xfrm>
            <a:off x="76320" y="53352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C:\Documents and Settings\asus\My Documents\My Pictures\d8207cba96.gif"/>
          <p:cNvPicPr/>
          <p:nvPr/>
        </p:nvPicPr>
        <p:blipFill>
          <a:blip r:embed="rId3"/>
          <a:stretch/>
        </p:blipFill>
        <p:spPr>
          <a:xfrm>
            <a:off x="6705720" y="53352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E:\CLIPART\ANIMALS\INSECTS\INSEC053.WMF"/>
          <p:cNvPicPr/>
          <p:nvPr/>
        </p:nvPicPr>
        <p:blipFill>
          <a:blip r:embed="rId4"/>
          <a:stretch/>
        </p:blipFill>
        <p:spPr>
          <a:xfrm>
            <a:off x="838080" y="5172120"/>
            <a:ext cx="1629000" cy="1305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9" descr="E:\CLIPART\ANIMALS\CARTANIM\CINSE022.WMF"/>
          <p:cNvPicPr/>
          <p:nvPr/>
        </p:nvPicPr>
        <p:blipFill>
          <a:blip r:embed="rId5"/>
          <a:stretch/>
        </p:blipFill>
        <p:spPr>
          <a:xfrm>
            <a:off x="6553080" y="5791320"/>
            <a:ext cx="863640" cy="67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6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895480" y="1828800"/>
            <a:ext cx="5639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 تشعر أنك ناجح في كسب الآخرين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ستطيع الخروج  من المواقف المحرجة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تحدث فينصت لك الآخرون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حس أن الناس يفرحون  بوجودك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تعامل مع الكل بحسب حا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وقعت لك مشاكل بسبب تعاملك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أعجبك تعامل شخص وحاكيت فع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رأيت شخصا محبوبا وتمنيت أن تُحب مث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4" descr="C:\Documents and Settings\asus\My Documents\عرض\صور4\GOVT098.WMF"/>
          <p:cNvPicPr/>
          <p:nvPr/>
        </p:nvPicPr>
        <p:blipFill>
          <a:blip r:embed="rId1"/>
          <a:stretch/>
        </p:blipFill>
        <p:spPr>
          <a:xfrm>
            <a:off x="457200" y="3809880"/>
            <a:ext cx="2666880" cy="2551320"/>
          </a:xfrm>
          <a:prstGeom prst="rect">
            <a:avLst/>
          </a:prstGeom>
          <a:ln w="0">
            <a:noFill/>
          </a:ln>
        </p:spPr>
      </p:pic>
      <p:sp>
        <p:nvSpPr>
          <p:cNvPr id="369" name="Right Triangle 6"/>
          <p:cNvSpPr/>
          <p:nvPr/>
        </p:nvSpPr>
        <p:spPr>
          <a:xfrm rot="5400000">
            <a:off x="1866960" y="-1866960"/>
            <a:ext cx="3581280" cy="7315200"/>
          </a:xfrm>
          <a:prstGeom prst="rtTriangle">
            <a:avLst/>
          </a:prstGeom>
          <a:solidFill>
            <a:srgbClr val="fe9650"/>
          </a:solidFill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-9144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entury Schoolbook"/>
                <a:cs typeface="K Elham"/>
              </a:rPr>
              <a:t>حقق  أمانيك  مع.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Century Schoolbook"/>
                <a:ea typeface="K Elham"/>
              </a:rPr>
              <a:t> دورة الذكاء الاجتماعي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d6f0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76720" y="350640"/>
            <a:ext cx="22096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ffffff"/>
                </a:solidFill>
                <a:latin typeface="Century Schoolbook"/>
                <a:cs typeface="K Elham"/>
              </a:rPr>
              <a:t>فن</a:t>
            </a:r>
            <a:br>
              <a:rPr sz="4900"/>
            </a:br>
            <a:r>
              <a:rPr b="1" lang="ar-SA" sz="4900" spc="-1" strike="noStrike">
                <a:solidFill>
                  <a:srgbClr val="ffffff"/>
                </a:solidFill>
                <a:latin typeface="Century Schoolbook"/>
                <a:ea typeface="K Elham"/>
              </a:rPr>
              <a:t> النقد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866920" y="10666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قواعد النقد البناء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حسن الن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سر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لا تداهم النواي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متعاطف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لا تكثر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سلوك لا الهو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نقد بين  القبول والتقب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611c"/>
                </a:solidFill>
                <a:latin typeface="Century Schoolbook"/>
                <a:cs typeface="ACS  Zomorrod Extra Bold"/>
              </a:rPr>
              <a:t>استراتيجية  الفطيرة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575f6d"/>
                </a:solidFill>
                <a:latin typeface="Century Schoolbook"/>
                <a:cs typeface="Andalus"/>
              </a:rPr>
              <a:t>ثناء_الملاحظة_شكر</a:t>
            </a:r>
            <a:endParaRPr b="0" lang="en-US" sz="8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قم  بكتابة  رسالة تنصح  فيها زميلا  مقصرا في صلاة الجماع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9" name="Picture 8" descr="E:\CLIPART\BORDERS\BRDRMISC\BDROC007.WMF"/>
          <p:cNvPicPr/>
          <p:nvPr/>
        </p:nvPicPr>
        <p:blipFill>
          <a:blip r:embed="rId1"/>
          <a:stretch/>
        </p:blipFill>
        <p:spPr>
          <a:xfrm>
            <a:off x="228600" y="0"/>
            <a:ext cx="2270160" cy="15238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5"/>
          <p:cNvSpPr/>
          <p:nvPr/>
        </p:nvSpPr>
        <p:spPr>
          <a:xfrm>
            <a:off x="537480" y="590400"/>
            <a:ext cx="12765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75f6d"/>
                </a:solidFill>
                <a:latin typeface="Verdana"/>
                <a:cs typeface="Andalus"/>
              </a:rPr>
              <a:t>نشاط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85840" y="228600"/>
            <a:ext cx="426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 فن النقد  اتقن  فن.............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diamond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C:\Documents and Settings\asus\My Documents\عرض\صور4\4.JPG"/>
          <p:cNvPicPr/>
          <p:nvPr/>
        </p:nvPicPr>
        <p:blipFill>
          <a:blip r:embed="rId1"/>
          <a:stretch/>
        </p:blipFill>
        <p:spPr>
          <a:xfrm rot="18546600">
            <a:off x="1947600" y="569160"/>
            <a:ext cx="5085000" cy="67770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 rot="19577400">
            <a:off x="2031840" y="1374840"/>
            <a:ext cx="22860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كيف تتعامل مع المعروف عندما تقدمه او يقدم لك؟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99840" y="2057400"/>
            <a:ext cx="609588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من الفائز؟</a:t>
            </a:r>
            <a:endParaRPr b="0" lang="en-US" sz="10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strips dir="ru"/>
  </p:transition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75f6d"/>
                </a:solidFill>
                <a:latin typeface="Century Schoolbook"/>
              </a:rPr>
              <a:t>انتصار  بطعم  الهزيم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قاعدة الأجمل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n w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7" name="Picture 4" descr="C:\Documents and Settings\asus\My Documents\عرض\صور4\DSGNC041.WMF"/>
          <p:cNvPicPr/>
          <p:nvPr/>
        </p:nvPicPr>
        <p:blipFill>
          <a:blip r:embed="rId1"/>
          <a:stretch/>
        </p:blipFill>
        <p:spPr>
          <a:xfrm>
            <a:off x="2057400" y="2286000"/>
            <a:ext cx="3591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نازعت مع  أحد  إخوانك على  موضوع إحضار اختك من الجامع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ماهي  الحلول الممكنة وماهو الحل الأمثل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89" name="Group 5"/>
          <p:cNvGrpSpPr/>
          <p:nvPr/>
        </p:nvGrpSpPr>
        <p:grpSpPr>
          <a:xfrm>
            <a:off x="457200" y="152280"/>
            <a:ext cx="2819520" cy="1460520"/>
            <a:chOff x="457200" y="152280"/>
            <a:chExt cx="2819520" cy="1460520"/>
          </a:xfrm>
        </p:grpSpPr>
        <p:pic>
          <p:nvPicPr>
            <p:cNvPr id="490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457200" y="304560"/>
              <a:ext cx="281952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Rectangle 2"/>
            <p:cNvSpPr/>
            <p:nvPr/>
          </p:nvSpPr>
          <p:spPr>
            <a:xfrm>
              <a:off x="766800" y="152280"/>
              <a:ext cx="1897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2"/>
          <p:cNvSpPr/>
          <p:nvPr/>
        </p:nvSpPr>
        <p:spPr>
          <a:xfrm>
            <a:off x="1295280" y="1905120"/>
            <a:ext cx="523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e8637"/>
                </a:solidFill>
                <a:latin typeface="Verdana"/>
                <a:cs typeface="K Elham"/>
              </a:rPr>
              <a:t>تم بحمد الله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Box 3"/>
          <p:cNvSpPr/>
          <p:nvPr/>
        </p:nvSpPr>
        <p:spPr>
          <a:xfrm>
            <a:off x="2590920" y="5867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  <a:cs typeface="AL-Mohanad Bold"/>
              </a:rPr>
              <a:t>د. خالد بن صالح المني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2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6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7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8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9000" y="380880"/>
            <a:ext cx="35812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 أن  نبدأ .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819520" y="18288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 ترضى بأقل من عشر فوائد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وعاهد الله  بنية صادقة على التطبيق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0520" y="2819160"/>
            <a:ext cx="4876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15%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من النجاح الوظيفي  يرجع للذكاء المنطقي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85%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يرجع للذكاء العاطفي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Rectangle 5" descr=""/>
          <p:cNvPicPr/>
          <p:nvPr/>
        </p:nvPicPr>
        <p:blipFill>
          <a:blip r:embed="rId1"/>
          <a:stretch/>
        </p:blipFill>
        <p:spPr>
          <a:xfrm>
            <a:off x="291960" y="42840"/>
            <a:ext cx="4627800" cy="3267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sus\My Documents\عرض\صور4\23.JPG"/>
          <p:cNvPicPr/>
          <p:nvPr/>
        </p:nvPicPr>
        <p:blipFill>
          <a:blip r:embed="rId2"/>
          <a:stretch/>
        </p:blipFill>
        <p:spPr>
          <a:xfrm>
            <a:off x="5257800" y="380880"/>
            <a:ext cx="3152880" cy="2432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c8d6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42670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مكــــــاســــبـــــــك من حسن الخلق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19320" y="342864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304920" y="228600"/>
            <a:ext cx="2081160" cy="1460520"/>
            <a:chOff x="304920" y="228600"/>
            <a:chExt cx="2081160" cy="1460520"/>
          </a:xfrm>
        </p:grpSpPr>
        <p:pic>
          <p:nvPicPr>
            <p:cNvPr id="379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208116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2"/>
            <p:cNvSpPr/>
            <p:nvPr/>
          </p:nvSpPr>
          <p:spPr>
            <a:xfrm>
              <a:off x="533520" y="228600"/>
              <a:ext cx="1400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1" name="Picture 5" descr="C:\Documents and Settings\asus\My Documents\عرض\صور4\3.JPG"/>
          <p:cNvPicPr/>
          <p:nvPr/>
        </p:nvPicPr>
        <p:blipFill>
          <a:blip r:embed="rId2"/>
          <a:stretch/>
        </p:blipFill>
        <p:spPr>
          <a:xfrm>
            <a:off x="4419720" y="0"/>
            <a:ext cx="2133360" cy="174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57800" y="1188720"/>
            <a:ext cx="27432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2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مكاسبك</a:t>
            </a:r>
            <a:endParaRPr b="0" lang="en-US" sz="6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6000" y="3048120"/>
            <a:ext cx="4341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8637"/>
                </a:solidFill>
                <a:latin typeface="Century Schoolbook"/>
                <a:cs typeface="AL-Mohanad Bold"/>
              </a:rPr>
              <a:t>لتفـعيل مرؤوسيه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cc"/>
                </a:solidFill>
                <a:latin typeface="Century Schoolbook"/>
                <a:cs typeface="AL-Mohanad Bold"/>
              </a:rPr>
              <a:t>لأسرة سعيدة وتربية حميد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الأزواج و الزوجات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9966"/>
                </a:solidFill>
                <a:latin typeface="Century Schoolbook"/>
                <a:cs typeface="AL-Mohanad Bold"/>
              </a:rPr>
              <a:t>الدعــــا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8a7007"/>
                </a:solidFill>
                <a:latin typeface="Century Schoolbook"/>
                <a:cs typeface="AL-Mohanad Bold"/>
              </a:rPr>
              <a:t>والمربين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67080" y="3504960"/>
            <a:ext cx="3657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33"/>
                </a:solidFill>
                <a:latin typeface="Century Schoolbook"/>
                <a:cs typeface="AL-Mohanad Bold"/>
              </a:rPr>
              <a:t>التعامل مع الناس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598d9"/>
                </a:solidFill>
                <a:latin typeface="Century Schoolbook"/>
                <a:cs typeface="AL-Mohanad Bold"/>
              </a:rPr>
              <a:t>نحن في حـاجـتـه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entury Schoolbook"/>
                <a:cs typeface="AL-Mohanad Bold"/>
              </a:rPr>
              <a:t>وهم في حاجتن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668c4"/>
                </a:solidFill>
                <a:latin typeface="Century Schoolbook"/>
                <a:cs typeface="AL-Mohanad Bold"/>
              </a:rPr>
              <a:t>لـلـدنـيـ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66"/>
                </a:solidFill>
                <a:latin typeface="Al-Kharashi 45"/>
                <a:cs typeface="AL-Mohanad Bold"/>
              </a:rPr>
              <a:t>وللآخـــــر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5" descr="C:\Documents and Settings\asus\My Documents\عرض\صور\GOVT131.WMF"/>
          <p:cNvPicPr/>
          <p:nvPr/>
        </p:nvPicPr>
        <p:blipFill>
          <a:blip r:embed="rId1"/>
          <a:stretch/>
        </p:blipFill>
        <p:spPr>
          <a:xfrm>
            <a:off x="1828800" y="685800"/>
            <a:ext cx="2590920" cy="197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5" descr="C:\Documents and Settings\asus\My Documents\عرض\صور4\8.JPG"/>
          <p:cNvPicPr/>
          <p:nvPr/>
        </p:nvPicPr>
        <p:blipFill>
          <a:blip r:embed="rId1"/>
          <a:stretch/>
        </p:blipFill>
        <p:spPr>
          <a:xfrm>
            <a:off x="6477120" y="-2590920"/>
            <a:ext cx="2185920" cy="2590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 rot="684600">
            <a:off x="5743440" y="1133280"/>
            <a:ext cx="1594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K Elham"/>
              </a:rPr>
              <a:t>الخطو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K Elham"/>
              </a:rPr>
              <a:t> الأولى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Rectangle 6" descr=""/>
          <p:cNvPicPr/>
          <p:nvPr/>
        </p:nvPicPr>
        <p:blipFill>
          <a:blip r:embed="rId2"/>
          <a:stretch/>
        </p:blipFill>
        <p:spPr>
          <a:xfrm>
            <a:off x="-66600" y="1670040"/>
            <a:ext cx="8345520" cy="485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-0.08611 0.4 E">
                                      <p:cBhvr>
                                        <p:cTn id="304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09880" y="1069920"/>
            <a:ext cx="4572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عمق رغبة إنسانية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اهو الشيء الذي  يجعل  الآخرين  سعداء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عرف  اول ما تطالب به  الدول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سلوك لا الهو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غنى رجلين في العالم  يقدمان  لك  وصفة  سحرية للتعام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رقم قياسي للزواج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4" descr="D:\only me\wafa3\no body\Things\brxbxp28323.jpg"/>
          <p:cNvPicPr/>
          <p:nvPr/>
        </p:nvPicPr>
        <p:blipFill>
          <a:blip r:embed="rId1"/>
          <a:stretch/>
        </p:blipFill>
        <p:spPr>
          <a:xfrm>
            <a:off x="609480" y="1155600"/>
            <a:ext cx="3407040" cy="4178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 rot="21363000">
            <a:off x="1117080" y="2248920"/>
            <a:ext cx="24386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entury Schoolbook"/>
                <a:cs typeface="K Elham"/>
              </a:rPr>
              <a:t>السر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entury Schoolbook"/>
                <a:ea typeface="K Elham"/>
              </a:rPr>
              <a:t> الخطير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20:54:18Z</dcterms:created>
  <dc:creator>user</dc:creator>
  <dc:description/>
  <dc:language>en-US</dc:language>
  <cp:lastModifiedBy>www.arabswell.com</cp:lastModifiedBy>
  <dcterms:modified xsi:type="dcterms:W3CDTF">2008-03-03T13:10:54Z</dcterms:modified>
  <cp:revision>29</cp:revision>
  <dc:subject/>
  <dc:title>فن  التعامل  وقوة التأثير  </dc:title>
</cp:coreProperties>
</file>